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0E81-11C3-494E-97B3-0565BD31D3F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4EC3-5339-4C3C-ACA3-339543718A65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B08-9411-4BC8-AA1B-41729716F70B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6EAB-FA36-4B7E-B453-E90BB5DF387A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843-9F14-49C6-AEE4-ED650C1CDFBE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44CA-D6F0-411B-93EF-905941E01A92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1F6-231D-4B4A-8871-F67C44539E42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B53A-642A-4CE3-89F0-A72DF0EB9FC0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E1F-3F51-4909-B1E0-11CD5396FBCB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F91D-8432-456A-A819-CB95FA58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B8A1C-EE98-4514-8DE6-0543BF9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B617-49D9-4285-A68C-C1BA5002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C4E8-1051-4F17-806F-C62411C7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43F3-6C01-4E9C-A73C-AB2FCB69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CDBE-6870-4EA2-AE67-CBB72E0E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942E-5805-457B-A958-09C46DF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0D1F-ED1F-49B8-B9CE-1BAFA673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144E-3A71-4FE8-BB61-F1C42A70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EB7D-1808-4422-A778-DA1F9568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9003-955A-475B-A590-E240551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37AA-64B9-486A-B542-36B77DC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21B3-BC69-4255-8319-0F09C17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E6F1-F6D1-402B-BE25-BCB7F35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29A-CD91-4DA1-8FE1-0B34FB1C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4747-82FD-4B45-B658-47C6D855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FAD6-CBD9-432D-942E-3F129C9B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19A7-9698-4DE7-B543-A62BE581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68CA-DEA4-4F0D-8DB8-54EF784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04BE-CFF6-4EF6-AC01-66AC0B12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B97C-D039-4C76-9A04-1925B0A5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895F-4D12-4C4E-8EB3-EE98A1B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8D1D-E18A-4220-8A8C-798A4DD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8D79-1EDB-4A03-BD0F-1890C9F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A390-6CFF-41CD-AA74-B2120B053E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A11B-2A24-4320-BF31-C07AAB6E91B5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710400" y="617400"/>
            <a:ext cx="1898640" cy="1646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293760" y="641520"/>
            <a:ext cx="2388960" cy="1584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1719360" y="3443400"/>
            <a:ext cx="2390760" cy="17920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4110120" y="265752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682720" y="5445000"/>
            <a:ext cx="62892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7110360" y="260496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1316160" y="257184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6081840" y="544500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4"/>
          <a:stretch/>
        </p:blipFill>
        <p:spPr>
          <a:xfrm>
            <a:off x="5141880" y="3510000"/>
            <a:ext cx="2597040" cy="1725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" descr=""/>
          <p:cNvPicPr/>
          <p:nvPr/>
        </p:nvPicPr>
        <p:blipFill>
          <a:blip r:embed="rId5"/>
          <a:stretch/>
        </p:blipFill>
        <p:spPr>
          <a:xfrm>
            <a:off x="3452760" y="617400"/>
            <a:ext cx="222264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 rot="1306200">
            <a:off x="5724000" y="568080"/>
            <a:ext cx="3095640" cy="1935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2"/>
          <a:stretch/>
        </p:blipFill>
        <p:spPr>
          <a:xfrm>
            <a:off x="3244680" y="2421000"/>
            <a:ext cx="2733840" cy="1704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"/>
          <p:cNvPicPr/>
          <p:nvPr/>
        </p:nvPicPr>
        <p:blipFill>
          <a:blip r:embed="rId3"/>
          <a:stretch/>
        </p:blipFill>
        <p:spPr>
          <a:xfrm>
            <a:off x="816120" y="4471920"/>
            <a:ext cx="24285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4"/>
          <a:stretch/>
        </p:blipFill>
        <p:spPr>
          <a:xfrm>
            <a:off x="6227640" y="4451400"/>
            <a:ext cx="2340000" cy="19256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5"/>
          <a:stretch/>
        </p:blipFill>
        <p:spPr>
          <a:xfrm rot="20556000">
            <a:off x="596520" y="526680"/>
            <a:ext cx="278784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52560" y="0"/>
            <a:ext cx="9091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1084320" y="3997440"/>
            <a:ext cx="2666880" cy="1974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 rot="20545800">
            <a:off x="826560" y="820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 rot="1623600">
            <a:off x="5435280" y="995400"/>
            <a:ext cx="3024000" cy="1825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4"/>
          <a:stretch/>
        </p:blipFill>
        <p:spPr>
          <a:xfrm>
            <a:off x="5518080" y="407664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 rot="1306200">
            <a:off x="6463800" y="717480"/>
            <a:ext cx="2167200" cy="13543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4964040" y="2430360"/>
            <a:ext cx="2171880" cy="1354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3"/>
          <a:stretch/>
        </p:blipFill>
        <p:spPr>
          <a:xfrm>
            <a:off x="492120" y="4654440"/>
            <a:ext cx="1992240" cy="1562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4"/>
          <a:stretch/>
        </p:blipFill>
        <p:spPr>
          <a:xfrm>
            <a:off x="6875640" y="4586400"/>
            <a:ext cx="1928520" cy="1585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"/>
          <p:cNvPicPr/>
          <p:nvPr/>
        </p:nvPicPr>
        <p:blipFill>
          <a:blip r:embed="rId5"/>
          <a:stretch/>
        </p:blipFill>
        <p:spPr>
          <a:xfrm rot="20556000">
            <a:off x="401400" y="529920"/>
            <a:ext cx="2201760" cy="143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"/>
          <p:cNvPicPr/>
          <p:nvPr/>
        </p:nvPicPr>
        <p:blipFill>
          <a:blip r:embed="rId6"/>
          <a:stretch/>
        </p:blipFill>
        <p:spPr>
          <a:xfrm>
            <a:off x="3798720" y="4624560"/>
            <a:ext cx="1979640" cy="15285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7"/>
          <a:stretch/>
        </p:blipFill>
        <p:spPr>
          <a:xfrm>
            <a:off x="1254240" y="2379600"/>
            <a:ext cx="227484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"/>
          <p:cNvPicPr/>
          <p:nvPr/>
        </p:nvPicPr>
        <p:blipFill>
          <a:blip r:embed="rId8"/>
          <a:stretch/>
        </p:blipFill>
        <p:spPr>
          <a:xfrm>
            <a:off x="3552840" y="247680"/>
            <a:ext cx="199872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12600" y="28440"/>
            <a:ext cx="9131400" cy="770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9962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52280" y="184320"/>
            <a:ext cx="9144000" cy="6995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1440" y="-2700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2" name="Picture 6" descr=" "/>
          <p:cNvPicPr/>
          <p:nvPr/>
        </p:nvPicPr>
        <p:blipFill>
          <a:blip r:embed="rId2"/>
          <a:stretch/>
        </p:blipFill>
        <p:spPr>
          <a:xfrm>
            <a:off x="149400" y="-852480"/>
            <a:ext cx="285732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-33480"/>
            <a:ext cx="938520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55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 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3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5" descr=""/>
          <p:cNvPicPr/>
          <p:nvPr/>
        </p:nvPicPr>
        <p:blipFill>
          <a:blip r:embed="rId1"/>
          <a:stretch/>
        </p:blipFill>
        <p:spPr>
          <a:xfrm>
            <a:off x="6227640" y="649440"/>
            <a:ext cx="2571840" cy="2313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2"/>
          <a:stretch/>
        </p:blipFill>
        <p:spPr>
          <a:xfrm>
            <a:off x="900000" y="4124160"/>
            <a:ext cx="2986200" cy="2025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3"/>
          <a:stretch/>
        </p:blipFill>
        <p:spPr>
          <a:xfrm>
            <a:off x="244440" y="679320"/>
            <a:ext cx="2435400" cy="23972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"/>
          <p:cNvPicPr/>
          <p:nvPr/>
        </p:nvPicPr>
        <p:blipFill>
          <a:blip r:embed="rId4"/>
          <a:stretch/>
        </p:blipFill>
        <p:spPr>
          <a:xfrm>
            <a:off x="3060720" y="106380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5"/>
          <a:stretch/>
        </p:blipFill>
        <p:spPr>
          <a:xfrm>
            <a:off x="5651640" y="3409920"/>
            <a:ext cx="209700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618000" cy="2820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3708360" y="3645000"/>
            <a:ext cx="51195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7:06:14Z</dcterms:created>
  <dc:creator>Куделина</dc:creator>
  <dc:description/>
  <dc:language>en-US</dc:language>
  <cp:lastModifiedBy>user</cp:lastModifiedBy>
  <dcterms:modified xsi:type="dcterms:W3CDTF">2021-06-29T20:54:26Z</dcterms:modified>
  <cp:revision>131</cp:revision>
  <dc:subject/>
  <dc:title>Формирование фонематического восприятия </dc:title>
</cp:coreProperties>
</file>